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AFF5DA6-ECFD-470B-A639-6E3309496C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0F079FD-909E-4A70-A0F9-2C84658312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2893FA0-4FBC-4C32-8EBF-2AA093CF937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4160736-0BC2-4964-9495-B226A20A04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DD11863-2AB4-4C92-8B8C-FB5A281EC2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14631FD-24B6-4554-B6B8-7400A7CC04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1D1491D-0911-4218-A3E0-4B80A02458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7CFE0B8-C3E5-44D6-B980-03C4970D3D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5211CF1-3BA1-4185-A7B6-580A3646A82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103727C-95D4-48A7-9188-7E82E8887C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36C85E7-638C-49E6-9626-71BDEFF7DA7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FA766F-84CB-452B-AA49-04C86820E40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22BFCCF-1C86-45B4-A10D-C2409E8D9D9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199740F-F3D4-48A6-9148-6123EA411F2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FA1B58E-A9B4-4AEA-9AF9-80B66472AC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C18B4D-AB97-4E74-A720-BED99EB8218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6ADE3F9-609D-4323-ABB1-790A5E3562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6F54660-432E-4B36-AB8B-BEFCC1C127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34A5B0F-42C6-42A7-81B2-FACBC297F0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32AEA1A-1604-40B3-AFA3-27EAD9083E1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D4C1D3B-1C05-420F-83FF-7EEEEA9AC1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F30C727-3E10-4702-B4E7-48DD5D3BD9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DD9C92F-1076-4B0E-86A7-C6024BA7BC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EC8F9CE-D6E6-4219-815E-AE990CB0DE8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43B0931-C2DB-46F2-AE7B-0F79AC1654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BA31C5A-35C5-483A-AA90-5DBC7BB7A7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A18944F-98B2-4512-8DC2-301A0E1909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512E785-1309-4CBE-A5B3-A0A9BD5049B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00A1C8B-4181-4861-A86A-4293C03FE60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7F0CFB7-9191-4A78-91CB-2B3DFB36B29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2EA0937-C9D2-4D32-80E5-9E3589FB735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E14A662-0799-4D62-A37E-7D86092DEB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63FE8F-38B1-46C9-A442-7B064A7689D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38A6266-7F1E-40C2-902C-40165E642B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D650991-7BE8-4438-8AD8-B2AE0BD5288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D2E06C8-3AE6-45E2-AA64-6D8AA3236E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413D307-8999-4266-9DDC-C1F665E487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C2E3730-0D40-4FBA-9E8B-AED33BF295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046240" y="627120"/>
            <a:ext cx="2873520" cy="21556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4E5C1BF-1E06-4F52-90AB-01EDFB5FB89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A033AA0-8D78-4556-A9DF-60222D7A767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807B875-C407-4F00-8E96-634A2FAED4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5527078-723E-4C1E-A9A9-3A551C9DF4B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BC69143-6031-44A7-869D-19FE26C17B0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6AA7C60-2B37-472F-A12F-F525FBEF348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0AC0A4F-0F8E-4BF8-8372-273CF3A7C30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A61D7BF-A601-42F5-9142-5ED425DA81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9A93228-796B-4D89-84EF-0331785005F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A0F88A7-EA82-450F-9B84-14005747061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B280B70-5246-403A-B1D9-FEEA102380E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383E6DD-246A-41DD-B1BF-84C5ABC97BA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4231D08-D9F6-4FF8-8A3E-B3E334C438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F06AEB2-2422-4967-A8A0-008817E3ACB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3C163D2-CE58-4DD5-9FFE-CD595594D7A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CC99FAF4-7840-410D-9E57-C1D89381661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0240" y="926640"/>
            <a:ext cx="81234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ftware Qua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s and Inspe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50,000 LOC system without inspec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ystem contains 25+ defects/KLOC at test ent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t is 1250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the typical 10+ hours per defect, that is 12,500+ programmer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at is 6 programmer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properly planned, these tests could be done in 12 to 15 month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unplanned, testing could take 2 years or mo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s and Inspe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50800"/>
            <a:ext cx="7724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50,000 LOC system with inspec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take about 10 programmer hours per 250 LOC, or about 2,00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1 programmer ye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ne well, inspections can remove about 80% of the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means 250 defects would be left for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ould take about 2,500 hours, or a savings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programmer yea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s and Inspection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quality will be sharply impro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ral thousand hours could probably be sa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 should still be done. The inspection focus should be on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advantages of inspection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d product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predictable schedu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to focus on the important quality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Fix Time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82640" y="1447920"/>
            <a:ext cx="82360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typical fix time rati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BM rules of thumb: coding = 1.5; testing = 60; usage = 1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ehm: design = 1; development test = 15 to 40; acceptance test = 30 to 70; operation = 40 to 1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us: design = 1; code = 20; test = 8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kerman: test = 2 to 10 times inspection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ssell: inspection = 1; test = 2 to 4; use = 3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research: unit test takes 12 times longer than code review to find and fix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Q is a way to measure process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Q ha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aisal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88760" y="1450800"/>
            <a:ext cx="7623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ilure costs are repair, rework, and scrap.  In PSP, failure costs include all compile and tes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aisal costs are the costs of inspecting for defects.  In PSP, appraisal costs include all design and code review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cos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finding and resolving defect ca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generally handled before projects st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typically be a process and not a project a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SP, examples of prevention cost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al specification or design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typ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analysis and impro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ost of Quality (COQ)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01360" y="1450800"/>
            <a:ext cx="8085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useful COQ measure is the ratio of appraisal to failure costs (A/FR).  This 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ppraisal COQ) / (failure COQ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/FR measure is not widely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measured, most software organizations would be near zero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SP, A/FR should exceed 2.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is associated with low numbers of test defects and high product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Quality Strateg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891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your PSP quality objectives, i.e.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ing all defects before the first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hieving high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ing accurate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PSP process quality measures, i.e.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all process y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Q appraisal versus failure costs (A/F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reviewe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performance index (CP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Quality Strateg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ine the projects that you have completed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ir ratings on thes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which behaviors had an effect on these resul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these data, identify the most effective practices for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 these practices in your process by us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crip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Quality Strateg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89120" y="1463400"/>
            <a:ext cx="77119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measures that will reasonably predict process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these as control variab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specifications for these variab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your performance against these specific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your process to determ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and when to change the specificatio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that will improve the process furth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Benchmark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01360" y="1450800"/>
            <a:ext cx="7561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hod for tracking process improvement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quality and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means for comparing processes used by different people or organiz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insensitive to project specif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l process benchmarking typically deals with the ability of the process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products within specif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stand drift and perturb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ftware Benchmark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01360" y="1450800"/>
            <a:ext cx="7862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present, software benchmarking techniques are process- depend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chmarks are still useful, however, as long as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objectiv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them over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m for improving the process for which they are de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s should not be made among individuals or organizations using process-sensitive benchmar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Software Benchmark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consistent set of measures for evaluating your process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se measures on every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individual projects to determine trends or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nd track short-term improvement goals against thes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nd track long-term improvement goals against thes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enchmarking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89120" y="1450800"/>
            <a:ext cx="7835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data are from various students in the PSP course at Carnegie Mellon University in the spring of 199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a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by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vs. A/F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 vs. 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 by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vs.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 vs. 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1549440" y="533520"/>
            <a:ext cx="621036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045120" cy="56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21036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13404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qual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and process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economic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acterizing a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chmarking a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mov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preven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Yield Versus A/FR Conclus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01360" y="1450800"/>
            <a:ext cx="7559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and A/FR are closely related for these stud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considerable variation among studen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ratios appear to lead to higher yiel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s of 70+% are not achieved without A/FRs near 1.0 or abo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does not guarantee high yield; the appraisal time must be spent effectiv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76360" y="3342960"/>
            <a:ext cx="18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574640" y="546120"/>
            <a:ext cx="605808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76360" y="3342960"/>
            <a:ext cx="1839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st Defects Versus A/F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88760" y="1450800"/>
            <a:ext cx="7748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are reduced by high A/FR ratios for all stud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get very low numbers of test defects, A/FR values of above 2.0 appear to be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/FRs between 1.0 and 2.0, low test defects are occasionally obtai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n A/FR below 1.0, low test defects are r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75"/>
          <p:cNvGrpSpPr/>
          <p:nvPr/>
        </p:nvGrpSpPr>
        <p:grpSpPr>
          <a:xfrm>
            <a:off x="927000" y="628560"/>
            <a:ext cx="6568920" cy="5396040"/>
            <a:chOff x="927000" y="628560"/>
            <a:chExt cx="6568920" cy="5396040"/>
          </a:xfrm>
        </p:grpSpPr>
        <p:sp>
          <p:nvSpPr>
            <p:cNvPr id="224" name="Rectangle 2"/>
            <p:cNvSpPr/>
            <p:nvPr/>
          </p:nvSpPr>
          <p:spPr>
            <a:xfrm rot="16200000">
              <a:off x="757080" y="3487320"/>
              <a:ext cx="431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vert="eaVer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4"/>
            <p:cNvSpPr/>
            <p:nvPr/>
          </p:nvSpPr>
          <p:spPr>
            <a:xfrm>
              <a:off x="1657080" y="628560"/>
              <a:ext cx="5838840" cy="5396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Line 5"/>
            <p:cNvSpPr/>
            <p:nvPr/>
          </p:nvSpPr>
          <p:spPr>
            <a:xfrm>
              <a:off x="2850840" y="2290680"/>
              <a:ext cx="1800" cy="2748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Line 6"/>
            <p:cNvSpPr/>
            <p:nvPr/>
          </p:nvSpPr>
          <p:spPr>
            <a:xfrm>
              <a:off x="2786040" y="503892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Line 7"/>
            <p:cNvSpPr/>
            <p:nvPr/>
          </p:nvSpPr>
          <p:spPr>
            <a:xfrm>
              <a:off x="2786040" y="476100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>
              <a:off x="2786040" y="448164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Line 9"/>
            <p:cNvSpPr/>
            <p:nvPr/>
          </p:nvSpPr>
          <p:spPr>
            <a:xfrm>
              <a:off x="2786040" y="422136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Line 10"/>
            <p:cNvSpPr/>
            <p:nvPr/>
          </p:nvSpPr>
          <p:spPr>
            <a:xfrm>
              <a:off x="2786040" y="394200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Line 11"/>
            <p:cNvSpPr/>
            <p:nvPr/>
          </p:nvSpPr>
          <p:spPr>
            <a:xfrm>
              <a:off x="2786040" y="366408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Line 12"/>
            <p:cNvSpPr/>
            <p:nvPr/>
          </p:nvSpPr>
          <p:spPr>
            <a:xfrm>
              <a:off x="2786040" y="338616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Line 13"/>
            <p:cNvSpPr/>
            <p:nvPr/>
          </p:nvSpPr>
          <p:spPr>
            <a:xfrm>
              <a:off x="2786040" y="310824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Line 14"/>
            <p:cNvSpPr/>
            <p:nvPr/>
          </p:nvSpPr>
          <p:spPr>
            <a:xfrm>
              <a:off x="2786040" y="2846520"/>
              <a:ext cx="129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Line 15"/>
            <p:cNvSpPr/>
            <p:nvPr/>
          </p:nvSpPr>
          <p:spPr>
            <a:xfrm>
              <a:off x="2786040" y="256860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Line 16"/>
            <p:cNvSpPr/>
            <p:nvPr/>
          </p:nvSpPr>
          <p:spPr>
            <a:xfrm>
              <a:off x="2786040" y="2290680"/>
              <a:ext cx="129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Line 17"/>
            <p:cNvSpPr/>
            <p:nvPr/>
          </p:nvSpPr>
          <p:spPr>
            <a:xfrm>
              <a:off x="2850840" y="5038920"/>
              <a:ext cx="2862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Line 18"/>
            <p:cNvSpPr/>
            <p:nvPr/>
          </p:nvSpPr>
          <p:spPr>
            <a:xfrm flipV="1">
              <a:off x="285084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19"/>
            <p:cNvSpPr/>
            <p:nvPr/>
          </p:nvSpPr>
          <p:spPr>
            <a:xfrm flipV="1">
              <a:off x="316224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Line 20"/>
            <p:cNvSpPr/>
            <p:nvPr/>
          </p:nvSpPr>
          <p:spPr>
            <a:xfrm flipV="1">
              <a:off x="348912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Line 21"/>
            <p:cNvSpPr/>
            <p:nvPr/>
          </p:nvSpPr>
          <p:spPr>
            <a:xfrm flipV="1">
              <a:off x="379872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Line 22"/>
            <p:cNvSpPr/>
            <p:nvPr/>
          </p:nvSpPr>
          <p:spPr>
            <a:xfrm flipV="1">
              <a:off x="412560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443700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Line 24"/>
            <p:cNvSpPr/>
            <p:nvPr/>
          </p:nvSpPr>
          <p:spPr>
            <a:xfrm flipV="1">
              <a:off x="476388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507492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26"/>
            <p:cNvSpPr/>
            <p:nvPr/>
          </p:nvSpPr>
          <p:spPr>
            <a:xfrm flipV="1">
              <a:off x="5402160" y="4971960"/>
              <a:ext cx="144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27"/>
            <p:cNvSpPr/>
            <p:nvPr/>
          </p:nvSpPr>
          <p:spPr>
            <a:xfrm flipV="1">
              <a:off x="5713200" y="4971960"/>
              <a:ext cx="1800" cy="13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Freeform 28"/>
            <p:cNvSpPr/>
            <p:nvPr/>
          </p:nvSpPr>
          <p:spPr>
            <a:xfrm>
              <a:off x="2850840" y="2552760"/>
              <a:ext cx="2862360" cy="142236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0" y="15"/>
                  </a:moveTo>
                  <a:lnTo>
                    <a:pt x="19" y="28"/>
                  </a:lnTo>
                  <a:lnTo>
                    <a:pt x="39" y="52"/>
                  </a:lnTo>
                  <a:lnTo>
                    <a:pt x="58" y="55"/>
                  </a:lnTo>
                  <a:lnTo>
                    <a:pt x="78" y="55"/>
                  </a:lnTo>
                  <a:lnTo>
                    <a:pt x="97" y="70"/>
                  </a:lnTo>
                  <a:lnTo>
                    <a:pt x="117" y="66"/>
                  </a:lnTo>
                  <a:lnTo>
                    <a:pt x="136" y="87"/>
                  </a:lnTo>
                  <a:lnTo>
                    <a:pt x="156" y="0"/>
                  </a:lnTo>
                  <a:lnTo>
                    <a:pt x="175" y="33"/>
                  </a:lnTo>
                </a:path>
              </a:pathLst>
            </a:custGeom>
            <a:noFill/>
            <a:ln w="0">
              <a:solidFill>
                <a:srgbClr val="008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Freeform 29"/>
            <p:cNvSpPr/>
            <p:nvPr/>
          </p:nvSpPr>
          <p:spPr>
            <a:xfrm>
              <a:off x="2850840" y="4449960"/>
              <a:ext cx="2862360" cy="40788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0" y="25"/>
                  </a:moveTo>
                  <a:lnTo>
                    <a:pt x="19" y="18"/>
                  </a:lnTo>
                  <a:lnTo>
                    <a:pt x="39" y="18"/>
                  </a:lnTo>
                  <a:lnTo>
                    <a:pt x="58" y="3"/>
                  </a:lnTo>
                  <a:lnTo>
                    <a:pt x="78" y="18"/>
                  </a:lnTo>
                  <a:lnTo>
                    <a:pt x="97" y="7"/>
                  </a:lnTo>
                  <a:lnTo>
                    <a:pt x="117" y="5"/>
                  </a:lnTo>
                  <a:lnTo>
                    <a:pt x="136" y="8"/>
                  </a:lnTo>
                  <a:lnTo>
                    <a:pt x="156" y="14"/>
                  </a:lnTo>
                  <a:lnTo>
                    <a:pt x="175" y="0"/>
                  </a:lnTo>
                </a:path>
              </a:pathLst>
            </a:custGeom>
            <a:noFill/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1" name="Freeform 30"/>
            <p:cNvSpPr/>
            <p:nvPr/>
          </p:nvSpPr>
          <p:spPr>
            <a:xfrm>
              <a:off x="2850840" y="4024440"/>
              <a:ext cx="2862360" cy="718920"/>
            </a:xfrm>
            <a:custGeom>
              <a:avLst/>
              <a:gdLst/>
              <a:ahLst/>
              <a:rect l="l" t="t" r="r" b="b"/>
              <a:pathLst>
                <a:path w="175" h="44">
                  <a:moveTo>
                    <a:pt x="0" y="32"/>
                  </a:moveTo>
                  <a:lnTo>
                    <a:pt x="19" y="44"/>
                  </a:lnTo>
                  <a:lnTo>
                    <a:pt x="39" y="44"/>
                  </a:lnTo>
                  <a:lnTo>
                    <a:pt x="58" y="6"/>
                  </a:lnTo>
                  <a:lnTo>
                    <a:pt x="78" y="22"/>
                  </a:lnTo>
                  <a:lnTo>
                    <a:pt x="97" y="18"/>
                  </a:lnTo>
                  <a:lnTo>
                    <a:pt x="117" y="14"/>
                  </a:lnTo>
                  <a:lnTo>
                    <a:pt x="136" y="18"/>
                  </a:lnTo>
                  <a:lnTo>
                    <a:pt x="156" y="13"/>
                  </a:lnTo>
                  <a:lnTo>
                    <a:pt x="17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2" name="Rectangle 31"/>
            <p:cNvSpPr/>
            <p:nvPr/>
          </p:nvSpPr>
          <p:spPr>
            <a:xfrm>
              <a:off x="2801880" y="4498920"/>
              <a:ext cx="98280" cy="968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3" name="Rectangle 32"/>
            <p:cNvSpPr/>
            <p:nvPr/>
          </p:nvSpPr>
          <p:spPr>
            <a:xfrm>
              <a:off x="3112920" y="4694400"/>
              <a:ext cx="968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4" name="Rectangle 33"/>
            <p:cNvSpPr/>
            <p:nvPr/>
          </p:nvSpPr>
          <p:spPr>
            <a:xfrm>
              <a:off x="3439800" y="4694400"/>
              <a:ext cx="986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5" name="Rectangle 34"/>
            <p:cNvSpPr/>
            <p:nvPr/>
          </p:nvSpPr>
          <p:spPr>
            <a:xfrm>
              <a:off x="3749400" y="4073760"/>
              <a:ext cx="986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6" name="Rectangle 35"/>
            <p:cNvSpPr/>
            <p:nvPr/>
          </p:nvSpPr>
          <p:spPr>
            <a:xfrm>
              <a:off x="4078080" y="4335480"/>
              <a:ext cx="96840" cy="968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7" name="Rectangle 36"/>
            <p:cNvSpPr/>
            <p:nvPr/>
          </p:nvSpPr>
          <p:spPr>
            <a:xfrm>
              <a:off x="4387680" y="4268880"/>
              <a:ext cx="9828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Rectangle 37"/>
            <p:cNvSpPr/>
            <p:nvPr/>
          </p:nvSpPr>
          <p:spPr>
            <a:xfrm>
              <a:off x="4714560" y="4203720"/>
              <a:ext cx="98640" cy="986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Rectangle 38"/>
            <p:cNvSpPr/>
            <p:nvPr/>
          </p:nvSpPr>
          <p:spPr>
            <a:xfrm>
              <a:off x="5025960" y="4268880"/>
              <a:ext cx="9828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Rectangle 39"/>
            <p:cNvSpPr/>
            <p:nvPr/>
          </p:nvSpPr>
          <p:spPr>
            <a:xfrm>
              <a:off x="5352840" y="4187880"/>
              <a:ext cx="98640" cy="9828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Rectangle 40"/>
            <p:cNvSpPr/>
            <p:nvPr/>
          </p:nvSpPr>
          <p:spPr>
            <a:xfrm>
              <a:off x="5663880" y="3975120"/>
              <a:ext cx="98640" cy="986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41"/>
            <p:cNvSpPr/>
            <p:nvPr/>
          </p:nvSpPr>
          <p:spPr>
            <a:xfrm>
              <a:off x="2435040" y="1014480"/>
              <a:ext cx="4011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Productivity Trend - Student </a:t>
              </a:r>
              <a:endParaRPr b="1" lang="en-US" sz="23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Rectangle 42"/>
            <p:cNvSpPr/>
            <p:nvPr/>
          </p:nvSpPr>
          <p:spPr>
            <a:xfrm>
              <a:off x="4403880" y="1406520"/>
              <a:ext cx="32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23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43"/>
            <p:cNvSpPr/>
            <p:nvPr/>
          </p:nvSpPr>
          <p:spPr>
            <a:xfrm>
              <a:off x="2572920" y="490716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Rectangle 44"/>
            <p:cNvSpPr/>
            <p:nvPr/>
          </p:nvSpPr>
          <p:spPr>
            <a:xfrm>
              <a:off x="2457000" y="46292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Rectangle 45"/>
            <p:cNvSpPr/>
            <p:nvPr/>
          </p:nvSpPr>
          <p:spPr>
            <a:xfrm>
              <a:off x="2457000" y="435132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Rectangle 46"/>
            <p:cNvSpPr/>
            <p:nvPr/>
          </p:nvSpPr>
          <p:spPr>
            <a:xfrm>
              <a:off x="2457000" y="40896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Rectangle 47"/>
            <p:cNvSpPr/>
            <p:nvPr/>
          </p:nvSpPr>
          <p:spPr>
            <a:xfrm>
              <a:off x="2457000" y="381168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9" name="Rectangle 48"/>
            <p:cNvSpPr/>
            <p:nvPr/>
          </p:nvSpPr>
          <p:spPr>
            <a:xfrm>
              <a:off x="2457000" y="353376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0" name="Rectangle 49"/>
            <p:cNvSpPr/>
            <p:nvPr/>
          </p:nvSpPr>
          <p:spPr>
            <a:xfrm>
              <a:off x="2457000" y="32562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Rectangle 50"/>
            <p:cNvSpPr/>
            <p:nvPr/>
          </p:nvSpPr>
          <p:spPr>
            <a:xfrm>
              <a:off x="2457000" y="297828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Rectangle 51"/>
            <p:cNvSpPr/>
            <p:nvPr/>
          </p:nvSpPr>
          <p:spPr>
            <a:xfrm>
              <a:off x="2457000" y="27162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3" name="Rectangle 52"/>
            <p:cNvSpPr/>
            <p:nvPr/>
          </p:nvSpPr>
          <p:spPr>
            <a:xfrm>
              <a:off x="2457000" y="24386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4" name="Rectangle 53"/>
            <p:cNvSpPr/>
            <p:nvPr/>
          </p:nvSpPr>
          <p:spPr>
            <a:xfrm>
              <a:off x="2342160" y="2158920"/>
              <a:ext cx="3254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5" name="Rectangle 54"/>
            <p:cNvSpPr/>
            <p:nvPr/>
          </p:nvSpPr>
          <p:spPr>
            <a:xfrm>
              <a:off x="280152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6" name="Rectangle 55"/>
            <p:cNvSpPr/>
            <p:nvPr/>
          </p:nvSpPr>
          <p:spPr>
            <a:xfrm>
              <a:off x="311256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7" name="Rectangle 56"/>
            <p:cNvSpPr/>
            <p:nvPr/>
          </p:nvSpPr>
          <p:spPr>
            <a:xfrm>
              <a:off x="343944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374904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9" name="Rectangle 58"/>
            <p:cNvSpPr/>
            <p:nvPr/>
          </p:nvSpPr>
          <p:spPr>
            <a:xfrm>
              <a:off x="407772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0" name="Rectangle 59"/>
            <p:cNvSpPr/>
            <p:nvPr/>
          </p:nvSpPr>
          <p:spPr>
            <a:xfrm>
              <a:off x="438732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1" name="Rectangle 60"/>
            <p:cNvSpPr/>
            <p:nvPr/>
          </p:nvSpPr>
          <p:spPr>
            <a:xfrm>
              <a:off x="471420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2" name="Rectangle 61"/>
            <p:cNvSpPr/>
            <p:nvPr/>
          </p:nvSpPr>
          <p:spPr>
            <a:xfrm>
              <a:off x="502560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3" name="Rectangle 62"/>
            <p:cNvSpPr/>
            <p:nvPr/>
          </p:nvSpPr>
          <p:spPr>
            <a:xfrm>
              <a:off x="5352480" y="521820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4" name="Rectangle 63"/>
            <p:cNvSpPr/>
            <p:nvPr/>
          </p:nvSpPr>
          <p:spPr>
            <a:xfrm>
              <a:off x="5663520" y="52182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5" name="Rectangle 64"/>
            <p:cNvSpPr/>
            <p:nvPr/>
          </p:nvSpPr>
          <p:spPr>
            <a:xfrm>
              <a:off x="3207960" y="5627880"/>
              <a:ext cx="218016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rogram Numbe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Rectangle 65"/>
            <p:cNvSpPr/>
            <p:nvPr/>
          </p:nvSpPr>
          <p:spPr>
            <a:xfrm rot="16200000">
              <a:off x="1409400" y="3513600"/>
              <a:ext cx="12596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OC/Hou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7" name="Rectangle 66"/>
            <p:cNvSpPr/>
            <p:nvPr/>
          </p:nvSpPr>
          <p:spPr>
            <a:xfrm>
              <a:off x="6040440" y="3141720"/>
              <a:ext cx="1390320" cy="1046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8" name="Line 67"/>
            <p:cNvSpPr/>
            <p:nvPr/>
          </p:nvSpPr>
          <p:spPr>
            <a:xfrm>
              <a:off x="6122880" y="3336840"/>
              <a:ext cx="654120" cy="1800"/>
            </a:xfrm>
            <a:prstGeom prst="line">
              <a:avLst/>
            </a:prstGeom>
            <a:ln w="0">
              <a:solidFill>
                <a:srgbClr val="008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Rectangle 68"/>
            <p:cNvSpPr/>
            <p:nvPr/>
          </p:nvSpPr>
          <p:spPr>
            <a:xfrm>
              <a:off x="6825240" y="3189240"/>
              <a:ext cx="39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0" name="Line 69"/>
            <p:cNvSpPr/>
            <p:nvPr/>
          </p:nvSpPr>
          <p:spPr>
            <a:xfrm>
              <a:off x="6122880" y="3681360"/>
              <a:ext cx="654120" cy="1800"/>
            </a:xfrm>
            <a:prstGeom prst="line">
              <a:avLst/>
            </a:prstGeom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1" name="Rectangle 70"/>
            <p:cNvSpPr/>
            <p:nvPr/>
          </p:nvSpPr>
          <p:spPr>
            <a:xfrm>
              <a:off x="6825960" y="3533760"/>
              <a:ext cx="3603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Line 71"/>
            <p:cNvSpPr/>
            <p:nvPr/>
          </p:nvSpPr>
          <p:spPr>
            <a:xfrm>
              <a:off x="6122880" y="4024440"/>
              <a:ext cx="65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3" name="Rectangle 72"/>
            <p:cNvSpPr/>
            <p:nvPr/>
          </p:nvSpPr>
          <p:spPr>
            <a:xfrm>
              <a:off x="6400800" y="3975120"/>
              <a:ext cx="98280" cy="98640"/>
            </a:xfrm>
            <a:prstGeom prst="rect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4" name="Rectangle 73"/>
            <p:cNvSpPr/>
            <p:nvPr/>
          </p:nvSpPr>
          <p:spPr>
            <a:xfrm>
              <a:off x="6825960" y="3876840"/>
              <a:ext cx="505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tu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Software Quality?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c definition:  meeting the users’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eed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ot wa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e functional needs are often unknow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a hierarchy of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e required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performance requir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usable and conveni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economical and tim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dependable and reli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058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562040" y="520560"/>
            <a:ext cx="613404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 rot="16200000">
            <a:off x="574560" y="3342600"/>
            <a:ext cx="183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1562040" y="533520"/>
            <a:ext cx="6134040" cy="56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8724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Yield and A/FR Versus Productiv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89120" y="1450800"/>
            <a:ext cx="7899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 has considerable variation among individu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some cases, high yield produces higher productivity, but in others, it does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A/FR also sometimes results in high productivity and sometimes no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ly, yield and A/FR are somewhat independent of productiv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enchmark Conclus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89120" y="1450800"/>
            <a:ext cx="7610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desirable to have high values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/F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yield and A/FR are closely related, a yield versus A/FR benchmarking chart would not be usefu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versus productivity or A/FR versus productivity would likely be useful benchmarking chart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moval Strateg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789120" y="1450800"/>
            <a:ext cx="7672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inspections and reviews on special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D reviews:  structural issu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LD reviews:  logic correct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:  implementation detai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save time, do not add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issues in D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issues in code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e reviews thoroughly the first time and then trust them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moval Strateg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89120" y="1450800"/>
            <a:ext cx="7572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orough unit te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parameters at normal values, at limits, and outside limit val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loops and recursions for normal and abnormal termin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dependencies among procedures and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orough system-level tes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13960" y="1450800"/>
            <a:ext cx="7612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prevention is important beca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lways expensive to find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defects can be prevented, these costs are avoi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prevention analysis costs are incurred once, but save time on every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prevention should follow an orderly strategy and a defined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PSP, defect prevention actions include improved design methods and prototyp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Strategy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priorities for the defects types that are the m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quently-found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oublesom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-prevented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Strategy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prevention process has the following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n established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one or two defect types for initial actio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and evaluate the effectiveness of the defect prevention ac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needed adjustments and contin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pendable and Reliab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be used, the software mu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ll quickly and easi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consiste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erly handle normal and abnormal c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do destructive or unexpected thin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essentially bug-fre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tent bugs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operationally insignific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e destru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rely be evi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Prevention Strategy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01360" y="1450800"/>
            <a:ext cx="7723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setting your initial priorities, consider the defect types found most frequently in integration and system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 data to pick one or two defect types for initial ac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’t just try harder; establish explicit prevention ac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rporate these actions in your process scripts, checklists, and for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8760" y="1450800"/>
            <a:ext cx="7659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quality starts with defects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efects are not managed, more important quality issues cannot adequately be addre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ost effective way to manage defects is with the individual software engine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don’t eliminate your own defects, they will be much more expensive and time-consuming to remove la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a Quality Proces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quality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s quality produ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s its users’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the user of the PSP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s are y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ers and associ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’s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Quality Focu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891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is course, defects are the basic quality meas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at bugs are not important to the user, as long as they do no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fect op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use inconven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time or mon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use loss of confidence in the program’s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Quality Focu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89120" y="1450800"/>
            <a:ext cx="7673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fect content of software products must first be managed before other more important quality issues can be addre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software processes manage defects so poorly that little, if any, time is available for such important software quality issues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al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ve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Quality Focu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01720" y="1450800"/>
            <a:ext cx="7610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defect content is an essential prerequisite to a quality softwar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w defect content can best be achieved at the PSP leve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level is where the defects are injected, and this is where the engineers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th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ir ca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to prevent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11-05T17:39:36Z</cp:lastPrinted>
  <dcterms:modified xsi:type="dcterms:W3CDTF">2018-09-06T00:16:44Z</dcterms:modified>
  <cp:revision>61</cp:revision>
  <dc:subject/>
  <dc:title>No Slide Title</dc:title>
</cp:coreProperties>
</file>